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EDF-48EA-45F7-A8EA-BD256DB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436-E25C-42AD-A572-7E26FE83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4A874-11FD-4E06-BF3D-A2B57B0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17AB6-4651-43A5-A1CD-38C9C34E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5C56C-6FBB-434E-89C2-D3C72863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D529D-FD33-4BDF-8076-E3E18C1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B3483-83B0-4C00-8592-318AE2A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D369-E33E-4A89-A40A-7CED0A2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146FF-04EE-4C59-88C7-78E43E42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5A0FD-8F56-4720-9B78-2EAAB8BE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F17B-4246-439E-8240-3241DFE9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90ED3-00A9-4CA8-B5CA-1CE81644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61C-C66E-4A75-8A86-9CC5990C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BE41-4757-4A61-8DF7-B6E75960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FE2BC-E591-408C-8087-A7CC5910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5502-77A2-4C45-BDDB-BB7C04DF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A80DB-C6D6-4A5F-BE3C-FFE27A5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BED30-3616-484F-A072-80FCAAD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E85F1-B2DB-4CD1-8D37-233EE4E2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B2CD2-9E5C-4904-9E75-4C2CD1AF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8332-3426-47EA-B1A3-B76AE222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466E0-044F-4173-91AD-C45421C2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6BFC1-4723-43D4-A0D0-1F20D182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18C-83E7-4AFF-9545-E67FB9E6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E3623-E192-4B7B-A20D-9F699C5D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239AF-BEDC-48C2-A893-ADFC2E43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4AD4F-DDCF-4590-9699-F0A73470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F827-9072-4E28-B847-5AC0E25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740E6-069E-485B-9667-1492E0E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8EBD-B6EC-4211-A22F-49DC42B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AE7A8-0989-447D-9AAB-4232160A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E4DA3-BBDE-437D-9E25-C10DF4A1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E1302-70EE-47FA-BD3E-7C98D28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246F3-30E3-4F32-96B8-FC7DC9B5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F195-CDC8-459B-87A9-1BF457E6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2841-F303-443C-8940-9A58B02C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D8B31-80F2-4606-B24F-0CD56715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DE35F-2C15-4433-B200-F50D6959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84E2C-0524-4AEB-8834-F9283050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CC78E-8F75-4DBB-B226-151B2053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B42A5-8A28-4DA8-B2FD-A8764DDB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5E615-4FF9-478E-86DE-94E13285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4FDB8-3451-4027-9AE0-A41BEDE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0F571-88EF-4FD1-8B18-DB9B67A5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F5B9B-F4F1-43E9-9CA4-AEE83BAE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D7EB-2744-46F9-8C7C-81397C6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786DF-9967-4405-9C2D-388333C4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5342F-9204-49DF-94B0-F9594909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98AF0-92F8-490A-AAB6-1EBF9C65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0AE8B-88E3-44E7-A161-F750709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5710F-F28A-427A-ADD2-2EAC4E56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CBB15-71BD-4A67-9630-C5BB40F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08253-4A0C-4759-ABE7-9039F82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640772-20DD-4801-A6A9-65607C50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F529E-595A-4519-BE07-124547DD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AB437-1D98-47E2-B92F-6D21F5E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7144-AA1A-43F4-8490-039A03CE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BAFA8-22C7-422E-9CBF-9ADAA41A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98D1FA-0EE1-4470-9EF6-0337356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AF8E6-49D6-4CED-9265-B231777C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78CAE-D805-468E-8177-C704AA8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2A220-C513-4F7D-A6E5-1501D551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CE5A2-AB62-4495-8E94-306393C7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FC658-EBB5-4298-8A24-CF526F76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22EC-8DBD-4C4F-9589-315435D3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7197-0C66-467E-9F8C-87D5D415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8694-40E2-42CD-942A-68A6705A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26C1-0EA6-4FD1-9C8F-FF41DD8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DA0-23E4-4B7F-AA45-E89C3463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C4C8-19BF-4340-A333-4EE9D7D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C57-83CC-428D-8BFD-B8445A64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4749-79CF-4DF8-8F33-E4559AA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812-4B1C-47C4-9C33-8C5A3CD0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E6DA-F449-4E9C-A9EF-0B671FC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21E4-2CCF-409C-B41F-048BDDE4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3DB8-EB70-4FEB-A7D7-DF19F289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015BC-A61E-44E4-9062-1F31B457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D901-DFF0-4F19-8EEF-9F26D07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DABE-0C76-498A-83FD-129603D4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2BEF-7D48-4ABC-A543-5B615280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3E94-8C88-434E-B376-E110F2C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CFC2E-1C1B-4114-85EF-8740452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FD6B-0410-43F8-B88E-FD341E4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96E5-773D-4421-B8E8-36A4CB3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37F4-5EF2-42A6-A4F8-9BCCCE6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88F3-D30B-42D5-955F-1E0C9A8B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6E9F-58B1-428E-B87D-5CA5F9AA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A69E3-ED40-4D49-AFB2-29091A33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89EC-8077-482E-89A1-A625172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F2B8-A6EC-477D-BFBE-E0A7687F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2D6-2C42-454A-98AE-5D7A2740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187C-33CF-4C5E-8206-0C08DBF9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E9B5-8843-41D1-9CF4-8B3A57F0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0791A-5F65-47A3-966A-48043B48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42545-196E-4738-8265-A840F96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F840-1E31-4953-8B55-78634225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6268-E13A-4ACD-8DB8-017D93DC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1701-F72C-4E37-BE6B-FE6FD76A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72E7-6E5B-46B7-87EE-63F3245F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2DEF-7FF0-4DBC-BA6D-41679B46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D88E3-33AC-4D6B-B7E3-39EE86ED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F8F-DE56-4B4A-82FF-171E4406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1650-813F-4CA3-993C-F0E782A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BD2B-3A48-43A8-A1CA-60D10C4A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6FDD6-C66C-41BB-B42E-EC91A72F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CF464-26FF-4A79-9D0F-7D7DC02A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EA0E4-41BA-4026-B810-C4929896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8C81E-7A27-4246-A5BC-7F241C55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38D3-4AA6-48F2-8D6D-536F8F48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555B-8358-4DC0-B986-018AF9F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75243-E86F-495E-BEED-DB61C9F2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59703-0793-47E1-898E-F68A7ED6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5CA-EFAA-45D5-9204-CE56022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AC13-F000-46F5-9B74-7D660C60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FAE66-2C58-4AAA-BD9B-2896A7C4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FB5A8-0498-4CA7-893D-50C844E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16A9-8EC4-4480-A3FB-A8358E20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6CAF-7BA6-4CBC-ACE0-4B4669F5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678DB-9308-4B8C-9E52-CFCF123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A3E61-354B-4E96-9D22-3A0BDD3E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5BB55-DEDB-497E-A90A-469E15F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7F1A7-ABA5-4277-A399-265D30DD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A7AB-A1DF-4C2D-A47B-23AA31C8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811-32DE-4948-8655-4371068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F5D6-3535-49E8-A7BD-4A92E65F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75E9-44E0-41F4-B7B5-5470F189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6FD8-7DC9-4112-B25C-998C7E8B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FE973-FC00-4C58-8552-A1002EA2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1BAF9-B0AB-43A9-8209-40A5CD6C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BCE9A-5EF6-4B86-B1AE-37DCE6D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20863-E779-41F0-81D6-B0833F07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06FC-B3F1-4B0D-A6AE-374C10F6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EC12-C151-4210-95BE-4F70DAF3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557F1-DACE-46D5-A674-7CFBCDE3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C720-4C1A-46BB-9DA2-4D4D8B5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85791-CE56-48D2-8BB9-12A24AE7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DB968-5DE4-42C4-9C13-9E16B13A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9DA9-8EC0-4BF7-9F19-1257A8D2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67E2-399E-46D9-ABDF-DA4E0A38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9677-6E09-4B7D-8877-AC401F6B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BEAA5-444D-4CE6-907D-3D9A30D2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11BF-E76F-4708-8152-F7D53D1B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D801-AFAD-4D56-A49C-DE81529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51B31-A909-4C8E-9EC9-5878A6F6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7AA3-C273-4ADD-8832-392AA653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6DE-3EE0-4DBD-BD43-632C9A7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EB8C-19AB-4C3C-8760-0459F21D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7497-E16E-4C97-88DC-9A6A7E2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071CE-5C18-40BF-8F08-D6B3A2F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691E8-13C6-4F30-99CB-F504EEB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8D270-2AC3-41E3-B07E-39C6298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1AECC-6995-4018-AAB0-D0650536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E03EF-228D-4D46-8052-7BDDECD2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BAE7-80C8-488D-898E-C24127FE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58AE6-937F-40A8-A0CD-880ED05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07FF-8347-46B2-AE29-70D7D7A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469-132A-40BA-B1DC-2F636A43D4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86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412-8626-4CE1-9D9F-8EA819F7BB6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29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B65-2DDF-4F86-84C2-5033A18539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472" name="Slika 7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ACA1-9229-4484-A0A5-026BAF7E1C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5" name="Slika 7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9729-03FF-4FE4-AE49-2E2F8C166F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8808-97E3-4301-8136-CD6CB8AD900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Slika 7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56A-0900-4E78-B078-7A36B0AEFA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8" name="Slika 7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662B-FCE6-44B4-BC89-05A78200AA9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71" name="Slika 7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172-1FF6-4562-AD79-822838BF945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E0B8-D20D-4A65-B1E8-46FDA1D478A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257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DC7-1CF8-48B3-B13D-E5BC1AA7BA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00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26F9-ED19-4F6C-AB6B-28433349140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43" name="Slika 3" descr=""/>
          <p:cNvPicPr/>
          <p:nvPr/>
        </p:nvPicPr>
        <p:blipFill>
          <a:blip r:embed="rId4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369-43A7-4FE0-9B32-99FFFC74CA2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6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liko prostora zauzimaju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9" name="Slika 3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Procijenite i odredite volumen (obujam) plastične čaše i kutije šib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na bilježnica, str. 18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Slika 3" descr=""/>
          <p:cNvPicPr/>
          <p:nvPr/>
        </p:nvPicPr>
        <p:blipFill>
          <a:blip r:embed="rId2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79280" y="347400"/>
            <a:ext cx="878544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Kako ćete izmjeriti volumen pribadač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pi vode, spajalice, novčića ili sličnih predm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Izmjerite duljine bridova učionice, pa izračunaj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lumen. Rezultat iskažite u kubnim metrima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litr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86" name="Slika 1" descr=""/>
          <p:cNvPicPr/>
          <p:nvPr/>
        </p:nvPicPr>
        <p:blipFill>
          <a:blip r:embed="rId5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04640" y="836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 li se odrediti veličina prosto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. Veličinu prostora što ga tijelo zauzima nazivamo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obuja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volume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auto ima kubika? Što znači taj bro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nutarnji obujam (zapremina)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obujam npr. posude, koji nam govori koliko u posudu stane zraka ili tekuć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Slika 2" descr=""/>
          <p:cNvPicPr/>
          <p:nvPr/>
        </p:nvPicPr>
        <p:blipFill>
          <a:blip r:embed="rId5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2" name="Slika 1" descr=""/>
          <p:cNvPicPr/>
          <p:nvPr/>
        </p:nvPicPr>
        <p:blipFill>
          <a:blip r:embed="rId6"/>
          <a:stretch/>
        </p:blipFill>
        <p:spPr>
          <a:xfrm>
            <a:off x="4943520" y="4149720"/>
            <a:ext cx="37162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1052280"/>
            <a:ext cx="626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je mjerna jedinica za obuj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 za obujam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etar kub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i je obujam nacrtane kock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 = a · a · a = 1m · 1 m · 1 m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1 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6"/>
          <a:stretch/>
        </p:blipFill>
        <p:spPr>
          <a:xfrm>
            <a:off x="5616720" y="3195720"/>
            <a:ext cx="3203280" cy="3014640"/>
          </a:xfrm>
          <a:prstGeom prst="rect">
            <a:avLst/>
          </a:prstGeom>
          <a:ln w="0">
            <a:noFill/>
          </a:ln>
        </p:spPr>
      </p:pic>
      <p:pic>
        <p:nvPicPr>
          <p:cNvPr id="565" name="Slika 3" descr=""/>
          <p:cNvPicPr/>
          <p:nvPr/>
        </p:nvPicPr>
        <p:blipFill>
          <a:blip r:embed="rId7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e jedinice za volum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ilimetar kubni (m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centimetar kubni (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ecimetar kubni (d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etar kubni (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ilometar kubni (k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Slika 2" descr=""/>
          <p:cNvPicPr/>
          <p:nvPr/>
        </p:nvPicPr>
        <p:blipFill>
          <a:blip r:embed="rId7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i je volumen nacrtane koc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Picture 4" descr="kubni decimetar.jpg"/>
          <p:cNvPicPr/>
          <p:nvPr/>
        </p:nvPicPr>
        <p:blipFill>
          <a:blip r:embed="rId2"/>
          <a:stretch/>
        </p:blipFill>
        <p:spPr>
          <a:xfrm>
            <a:off x="1692360" y="2133720"/>
            <a:ext cx="5616360" cy="4128840"/>
          </a:xfrm>
          <a:prstGeom prst="rect">
            <a:avLst/>
          </a:prstGeom>
          <a:ln w="0">
            <a:noFill/>
          </a:ln>
        </p:spPr>
      </p:pic>
      <p:pic>
        <p:nvPicPr>
          <p:cNvPr id="570" name="Slika 3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46800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 = a · a · a = 10 cm · 10 cm · 10 cm = 100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je to u decimetrima kubn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 = 1 dm · 1 dm · 1 dm = 1 d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av je odnos veličina među uzastopnim mjernim jedinic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Slika 3" descr=""/>
          <p:cNvPicPr/>
          <p:nvPr/>
        </p:nvPicPr>
        <p:blipFill>
          <a:blip r:embed="rId7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453960" y="1216080"/>
            <a:ext cx="82216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aka sljedeća mjerna jedinica za volumen je 1000 puta već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rojčani odnosi među mjernim jedinica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000 d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 000 000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c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1000 mm</a:t>
            </a:r>
            <a:r>
              <a:rPr b="0" lang="hr-H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Slika 2" descr=""/>
          <p:cNvPicPr/>
          <p:nvPr/>
        </p:nvPicPr>
        <p:blipFill>
          <a:blip r:embed="rId8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23640" y="981000"/>
            <a:ext cx="83739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va, prema obliku, mogu biti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tijelima odredili volum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) Izravno mjerenje volume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brojavanjem kockica koje su nam potrebne da bismo načinili tijelo tog oblika i velič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Slika 2" descr=""/>
          <p:cNvPicPr/>
          <p:nvPr/>
        </p:nvPicPr>
        <p:blipFill>
          <a:blip r:embed="rId5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7" name="Slika 1" descr=""/>
          <p:cNvPicPr/>
          <p:nvPr/>
        </p:nvPicPr>
        <p:blipFill>
          <a:blip r:embed="rId6"/>
          <a:stretch/>
        </p:blipFill>
        <p:spPr>
          <a:xfrm>
            <a:off x="5416560" y="3879720"/>
            <a:ext cx="2665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) računanje  volumena (obuj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jednadžbe obujma pravilnih tijela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cka: V = a · a · a         Kvadar: V = a · b ·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Cube 3"/>
          <p:cNvSpPr/>
          <p:nvPr/>
        </p:nvSpPr>
        <p:spPr>
          <a:xfrm>
            <a:off x="1835280" y="5084640"/>
            <a:ext cx="865080" cy="86544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ube 4"/>
          <p:cNvSpPr/>
          <p:nvPr/>
        </p:nvSpPr>
        <p:spPr>
          <a:xfrm>
            <a:off x="5076720" y="4941720"/>
            <a:ext cx="2303640" cy="10083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Slika 5" descr=""/>
          <p:cNvPicPr/>
          <p:nvPr/>
        </p:nvPicPr>
        <p:blipFill>
          <a:blip r:embed="rId3"/>
          <a:stretch/>
        </p:blipFill>
        <p:spPr>
          <a:xfrm>
            <a:off x="-324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9T19:38:04Z</dcterms:created>
  <dc:creator>Mladen Vidović</dc:creator>
  <dc:description/>
  <dc:language>en-US</dc:language>
  <cp:lastModifiedBy>MArina Dumančić</cp:lastModifiedBy>
  <dcterms:modified xsi:type="dcterms:W3CDTF">2019-09-13T20:59:46Z</dcterms:modified>
  <cp:revision>28</cp:revision>
  <dc:subject/>
  <dc:title>Mjerenje obujma tijela</dc:title>
</cp:coreProperties>
</file>